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19.pct" ContentType="image/x-pict"/>
  <Override PartName="/ppt/media/image18.pct" ContentType="image/x-pict"/>
  <Override PartName="/ppt/media/image17.png" ContentType="image/png"/>
  <Override PartName="/ppt/media/image3.png" ContentType="image/png"/>
  <Override PartName="/ppt/media/image14.pct" ContentType="image/x-pict"/>
  <Override PartName="/ppt/media/image16.pct" ContentType="image/x-pict"/>
  <Override PartName="/ppt/media/image15.png" ContentType="image/png"/>
  <Override PartName="/ppt/media/image7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CB4-9A9E-42F6-99CB-AA5FF0ED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28B-BEFD-458D-81D2-BC9326E8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81C-942B-4D5E-B14B-1992D417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3AD-1CAA-42F1-89FF-72725206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F80-ED1E-4479-BB65-1BCDBD48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1D7-6F08-49AD-A54E-B4EF7931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7DD-C65D-47CB-9DB2-67D137D8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527-CBC1-40A5-81EB-DDBFC2C2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17D-18B7-41EA-B8D4-DA71E319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E779-EEBF-42B2-9378-7D0B81E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F10-AE44-493A-A231-9C4D7CC7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0FB-4744-49B1-96E6-84E776BA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3225-CC3E-4D56-BFEF-5053B0347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752480"/>
            <a:ext cx="0" cy="4267440"/>
          </a:xfrm>
          <a:prstGeom prst="line">
            <a:avLst/>
          </a:prstGeom>
          <a:ln w="5724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57200" y="722160"/>
            <a:ext cx="322200" cy="4208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384120" cy="438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600200" y="609480"/>
            <a:ext cx="420840" cy="32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3800" y="1558800"/>
            <a:ext cx="83502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800" y="1558800"/>
            <a:ext cx="8350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TRANSFORMATION S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at do students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ood comprehension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anguage of m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nderstanding of text features of mathematics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range of problem solv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classroom climate that fosters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830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3800" y="1558800"/>
            <a:ext cx="8350200" cy="62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RAGETIES FOR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NAP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atalie paddled 402 km of the Murray River in her canoe over 6 days. She paddled the same distance each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 far did Natalie paddle each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roup activity - list the strategies that could be used to solve this problem before going to an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86600" y="5334120"/>
            <a:ext cx="17208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3800" y="1558800"/>
            <a:ext cx="835020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me common transformation strategi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ct out or us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 drawing or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 table or a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n organis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uess and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 for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ork back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it si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21924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3800" y="1558800"/>
            <a:ext cx="835020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 problem to 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man buys a horse for $60, sells it for $70, buys it back for $80 and sells it again for $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d he make or lose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27432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3800" y="1558800"/>
            <a:ext cx="8350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at strategies might students use to solve the Camalot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3800" y="1558800"/>
            <a:ext cx="8350200" cy="58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MALO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malot School is a small school with only six classrooms in the whole school. This year more students were enrolled that last year. Every classroom at the school has 8 tables for students and every table has four chairs. When every student at the school is sitting in a chair, 24 chairs are empty in the school. How many students are at Camalo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3800" y="1558800"/>
            <a:ext cx="83502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dentify the relev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Camalot Schoo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smal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chool with only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six classrooms in the whole school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his year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mor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tudents were enrolled that last year.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classroom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t the school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has 8 tabl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for students and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table has four chair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studen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t the school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is sitting in a chair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24 chairs are empt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n the school.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How many students are at Camalot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3800" y="1558800"/>
            <a:ext cx="8350200" cy="68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fferent configurations of the diagram could be drawn to allow students to arrive at one of the following series of operations (or other combinations) to solv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4 x 8 x 6 - 24           4 x 8 x 5 + 4 x 2           4 x 7 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32 + 32 + 32 + 32 + 32 + 8           5x 32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1558800"/>
            <a:ext cx="8350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operative Learn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nk - pair -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operative problem sol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Get It Together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book re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ind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Quality improve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514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3800" y="1558800"/>
            <a:ext cx="8350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blem Solving 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 tabl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Guess and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 lis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Draw a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 for a pattern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Model the problem with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ork backward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Simpl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ct it ou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Logical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3800" y="1558800"/>
            <a:ext cx="83502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MALO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malot School is a small school with only six classrooms in the whole school. This year more students were enrolled that last year. Every classroom at the school has 8 tables for students and every table has four chairs. When every student at the school is sitting in a chair, 24 chairs are empty in the school. How many students are at Camalo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ISSUES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3800" y="1558800"/>
            <a:ext cx="83502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ERE TO FROM HER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ole school approach to num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umeracy and literacy strategies embedded in all KLA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unt Me In Too and Count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vestigate the use of Newman’s Error Analysis to develop similar questioning for literacy and other K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3800" y="1558800"/>
            <a:ext cx="83502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FOR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Read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Tell me what the question is asking you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What will you do to find the answ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Tell me what you a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Why did you do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Now write down the answer to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8288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800" y="1558800"/>
            <a:ext cx="835020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ordy - literac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Unnecessar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umbers written in words and num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Only two numbers are displayed using numerals. The temptation is to either add, subtract, multiply or divid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 lot of information to process in order to answer the question as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question is at the end of a long piece of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533520"/>
            <a:ext cx="1098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3800" y="1558800"/>
            <a:ext cx="83502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read the words of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understand the meaning of what has been r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16480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3800" y="1558800"/>
            <a:ext cx="83502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determine a way to solve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CESS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do the mathema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29718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3800" y="1558800"/>
            <a:ext cx="835020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record and interpret their answer in relation to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mbedded in encoding is “record” AND “interpr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tell whether the answer they have makes sen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4952880"/>
            <a:ext cx="1446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3800" y="1558800"/>
            <a:ext cx="83502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REHEND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LITERACY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rite about, talk abou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xpla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equenc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municativ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tching / sor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Language / wor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phras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ictagloss - teacher dictates, students record main points of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5053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3800" y="1558800"/>
            <a:ext cx="83502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re are 26 sheep and 10 goats on a sh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ow old is the cap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76 out of 97 students did one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+ 10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- 10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x 10 = 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/ 10 =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1600200" cy="158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162920" y="2895480"/>
            <a:ext cx="15764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3800" y="1558800"/>
            <a:ext cx="835020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r Left had 8 apples. His wife gave him 3 apples. How many apples did Mr Left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Some students transform a problem into a proces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gu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cusing on a ‘key wor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g ‘lef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4114800"/>
            <a:ext cx="2057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2:32:51Z</dcterms:created>
  <dc:creator>DET</dc:creator>
  <dc:description/>
  <dc:language>en-US</dc:language>
  <cp:lastModifiedBy>Rural Distance</cp:lastModifiedBy>
  <cp:lastPrinted>2007-02-27T23:00:34Z</cp:lastPrinted>
  <dcterms:modified xsi:type="dcterms:W3CDTF">2009-03-05T03:41:50Z</dcterms:modified>
  <cp:revision>378</cp:revision>
  <dc:subject/>
  <dc:title>Programming Stage 5</dc:title>
</cp:coreProperties>
</file>